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A35-C2CE-484C-B7B1-CCBC94CB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F01-64CE-4C82-8563-D1697F55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27A-5D93-4B0E-9942-5343209F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7A7-E4CF-4E72-B6CA-A8E74C49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C73-457B-42C0-8C0D-88C04E7A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D49-E03C-47DC-AF06-6E2FAFDA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C86-AF5D-4AD7-AF95-1E11D40F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F41-1711-4CE8-AAB5-A4E5A300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E9B-E025-499D-A930-564D1A11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5AD-DAF0-4FD6-A79B-139F1F6D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47A-F0C3-4ACE-A61B-E6FF35E6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92D-7B02-45B6-9084-192FB306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33E14-0ED4-4AF3-8FDA-4BB9C22C8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3760" y="666576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28800" y="2727360"/>
            <a:ext cx="387504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 Web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sh Good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A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59984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t (Web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ine (Web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bernate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atis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::DBI (Pe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ware (Pe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T (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web services are incompa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ryone uses Chado (nor will th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PIs are language or system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I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d light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ful (GET, POST, etc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data model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high level cross database inform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ed URLs for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lists (XML, JSON, 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records in Generic Gene Page (GGP)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27240"/>
            <a:ext cx="907092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full text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fulltext/RNA%20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ontology/mitotic%20spindle%20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ho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orthologs/WBGene000065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record retrieval (GGP 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fetch/FBgn0026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is make s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interes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22:04:49Z</dcterms:created>
  <dc:creator>Josh Goodman</dc:creator>
  <dc:description/>
  <dc:language>en-US</dc:language>
  <cp:lastModifiedBy/>
  <dcterms:modified xsi:type="dcterms:W3CDTF">2009-01-15T18:11:25Z</dcterms:modified>
  <cp:revision>14</cp:revision>
  <dc:subject/>
  <dc:title/>
</cp:coreProperties>
</file>